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E3D1-FB68-4E1F-9F67-B88DD4E2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C55E-6E60-4C33-9461-D27CE643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0D54-6F5A-4C6B-B0D7-A533F0F92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EA2D-21F4-4AC0-AFED-98265FD3A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DD12-E1AA-4339-9549-BDF25C2F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047D-251B-42C4-8A74-A647ABB5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FCFE-ED43-4D6F-815F-C3E90E17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C318-560B-42FD-8397-E59D7AAC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29D8-613A-4CE6-98B3-D56F963B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746A-A6E1-42FD-8557-4B13AD53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D85E-A0F1-49F4-88BE-B2763F0E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3157-CC9E-4DA2-B33B-07FF5007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572B-101D-4919-9A3D-0D93E0B5285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3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79360"/>
            <a:ext cx="8001000" cy="947160"/>
          </a:xfrm>
          <a:prstGeom prst="rect">
            <a:avLst/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3333cc"/>
                </a:solidFill>
                <a:latin typeface="Arial"/>
              </a:rPr>
              <a:t>VII Expert Panel                                        Emissioni da Trasporto Strad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2209680"/>
            <a:ext cx="6400800" cy="29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CARATTERIZZAZIONE DIMENSIONALE DEL PARTICOLATO EMESSO DA AUTOVEICOLI DIES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.Avella, D.Fae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5194440"/>
            <a:ext cx="8381880" cy="1143000"/>
            <a:chOff x="0" y="5194440"/>
            <a:chExt cx="8381880" cy="1143000"/>
          </a:xfrm>
        </p:grpSpPr>
        <p:sp>
          <p:nvSpPr>
            <p:cNvPr id="44" name=""/>
            <p:cNvSpPr/>
            <p:nvPr/>
          </p:nvSpPr>
          <p:spPr>
            <a:xfrm>
              <a:off x="914400" y="6095880"/>
              <a:ext cx="7467480" cy="0"/>
            </a:xfrm>
            <a:prstGeom prst="line">
              <a:avLst/>
            </a:prstGeom>
            <a:ln w="7632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0" y="5194440"/>
              <a:ext cx="80964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961920" y="5575320"/>
              <a:ext cx="7391520" cy="0"/>
            </a:xfrm>
            <a:prstGeom prst="line">
              <a:avLst/>
            </a:prstGeom>
            <a:ln w="7632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317840" y="5842080"/>
              <a:ext cx="304812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996600"/>
                  </a:solidFill>
                  <a:latin typeface="Arial"/>
                </a:rPr>
                <a:t>San Donato Milanes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47920" y="5334120"/>
              <a:ext cx="5333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996600"/>
                  </a:solidFill>
                  <a:latin typeface="Arial"/>
                </a:rPr>
                <a:t>Stazione Sperimentale per i Combustibili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43000" y="228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LAZIONE EMISSIONE IN NUMERO/V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763120" cy="500220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7315200" y="1600200"/>
            <a:ext cx="1371600" cy="1155600"/>
            <a:chOff x="7315200" y="1600200"/>
            <a:chExt cx="1371600" cy="1155600"/>
          </a:xfrm>
        </p:grpSpPr>
        <p:sp>
          <p:nvSpPr>
            <p:cNvPr id="130" name=""/>
            <p:cNvSpPr/>
            <p:nvPr/>
          </p:nvSpPr>
          <p:spPr>
            <a:xfrm>
              <a:off x="7315200" y="1600200"/>
              <a:ext cx="1371600" cy="1155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20120" y="1752480"/>
              <a:ext cx="91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VEICO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59000" y="2068560"/>
              <a:ext cx="465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A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16200" y="2068560"/>
              <a:ext cx="32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Arial"/>
                </a:rPr>
                <a:t>B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59360" y="23857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121240" y="23857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981080" y="2286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ISSIONE ORARIA P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[N/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6115320" cy="179064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685800" y="2695680"/>
            <a:ext cx="6724800" cy="1987560"/>
            <a:chOff x="685800" y="2695680"/>
            <a:chExt cx="6724800" cy="1987560"/>
          </a:xfrm>
        </p:grpSpPr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685800" y="2772000"/>
              <a:ext cx="652320" cy="19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3"/>
            <a:stretch/>
          </p:blipFill>
          <p:spPr>
            <a:xfrm>
              <a:off x="1295280" y="2695680"/>
              <a:ext cx="6115320" cy="197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" name=""/>
          <p:cNvGrpSpPr/>
          <p:nvPr/>
        </p:nvGrpSpPr>
        <p:grpSpPr>
          <a:xfrm>
            <a:off x="1914480" y="2549520"/>
            <a:ext cx="5257800" cy="155880"/>
            <a:chOff x="1914480" y="2549520"/>
            <a:chExt cx="5257800" cy="155880"/>
          </a:xfrm>
        </p:grpSpPr>
        <p:grpSp>
          <p:nvGrpSpPr>
            <p:cNvPr id="142" name=""/>
            <p:cNvGrpSpPr/>
            <p:nvPr/>
          </p:nvGrpSpPr>
          <p:grpSpPr>
            <a:xfrm>
              <a:off x="1914480" y="2571840"/>
              <a:ext cx="2766960" cy="114120"/>
              <a:chOff x="1914480" y="2571840"/>
              <a:chExt cx="2766960" cy="114120"/>
            </a:xfrm>
          </p:grpSpPr>
          <p:sp>
            <p:nvSpPr>
              <p:cNvPr id="143" name=""/>
              <p:cNvSpPr/>
              <p:nvPr/>
            </p:nvSpPr>
            <p:spPr>
              <a:xfrm>
                <a:off x="1990800" y="2629080"/>
                <a:ext cx="2614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914480" y="257184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60" y="0"/>
                    </a:moveTo>
                    <a:lnTo>
                      <a:pt x="0" y="36"/>
                    </a:lnTo>
                    <a:lnTo>
                      <a:pt x="60" y="66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86400" y="2581200"/>
                <a:ext cx="9504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0" y="66"/>
                    </a:moveTo>
                    <a:lnTo>
                      <a:pt x="60" y="30"/>
                    </a:lnTo>
                    <a:lnTo>
                      <a:pt x="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3068280" y="2549520"/>
              <a:ext cx="148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4662360" y="2571840"/>
              <a:ext cx="1660680" cy="104760"/>
              <a:chOff x="4662360" y="2571840"/>
              <a:chExt cx="1660680" cy="104760"/>
            </a:xfrm>
          </p:grpSpPr>
          <p:sp>
            <p:nvSpPr>
              <p:cNvPr id="148" name=""/>
              <p:cNvSpPr/>
              <p:nvPr/>
            </p:nvSpPr>
            <p:spPr>
              <a:xfrm flipV="1">
                <a:off x="4738680" y="2619000"/>
                <a:ext cx="15080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662360" y="257184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60" y="0"/>
                    </a:moveTo>
                    <a:lnTo>
                      <a:pt x="0" y="36"/>
                    </a:lnTo>
                    <a:lnTo>
                      <a:pt x="60" y="66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227640" y="257184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0" y="66"/>
                    </a:moveTo>
                    <a:lnTo>
                      <a:pt x="60" y="30"/>
                    </a:lnTo>
                    <a:lnTo>
                      <a:pt x="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6313320" y="2571840"/>
              <a:ext cx="858960" cy="104760"/>
              <a:chOff x="6313320" y="2571840"/>
              <a:chExt cx="858960" cy="104760"/>
            </a:xfrm>
          </p:grpSpPr>
          <p:sp>
            <p:nvSpPr>
              <p:cNvPr id="152" name=""/>
              <p:cNvSpPr/>
              <p:nvPr/>
            </p:nvSpPr>
            <p:spPr>
              <a:xfrm flipV="1">
                <a:off x="6389640" y="2619000"/>
                <a:ext cx="70632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313320" y="257184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60" y="0"/>
                    </a:moveTo>
                    <a:lnTo>
                      <a:pt x="0" y="36"/>
                    </a:lnTo>
                    <a:lnTo>
                      <a:pt x="60" y="66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077240" y="2571840"/>
                <a:ext cx="9504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0" y="66"/>
                    </a:moveTo>
                    <a:lnTo>
                      <a:pt x="60" y="30"/>
                    </a:lnTo>
                    <a:lnTo>
                      <a:pt x="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6564960" y="254952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UD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71120" y="2552760"/>
              <a:ext cx="30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D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749160" y="4584600"/>
            <a:ext cx="6634080" cy="2011320"/>
            <a:chOff x="749160" y="4584600"/>
            <a:chExt cx="6634080" cy="2011320"/>
          </a:xfrm>
        </p:grpSpPr>
        <p:pic>
          <p:nvPicPr>
            <p:cNvPr id="158" name="" descr=""/>
            <p:cNvPicPr/>
            <p:nvPr/>
          </p:nvPicPr>
          <p:blipFill>
            <a:blip r:embed="rId4"/>
            <a:stretch/>
          </p:blipFill>
          <p:spPr>
            <a:xfrm>
              <a:off x="749160" y="4684320"/>
              <a:ext cx="652320" cy="191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5"/>
            <a:stretch/>
          </p:blipFill>
          <p:spPr>
            <a:xfrm>
              <a:off x="1296720" y="4584600"/>
              <a:ext cx="6086520" cy="1952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685800" y="762120"/>
            <a:ext cx="6523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981080" y="2286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ISSIONE ORARIA P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[N/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652320" cy="17524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295280" y="762120"/>
            <a:ext cx="6115320" cy="179064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762120" y="4622760"/>
            <a:ext cx="6724080" cy="1971720"/>
            <a:chOff x="762120" y="4622760"/>
            <a:chExt cx="6724080" cy="1971720"/>
          </a:xfrm>
        </p:grpSpPr>
        <p:pic>
          <p:nvPicPr>
            <p:cNvPr id="165" name="" descr=""/>
            <p:cNvPicPr/>
            <p:nvPr/>
          </p:nvPicPr>
          <p:blipFill>
            <a:blip r:embed="rId3"/>
            <a:stretch/>
          </p:blipFill>
          <p:spPr>
            <a:xfrm>
              <a:off x="762120" y="4622760"/>
              <a:ext cx="651960" cy="19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4"/>
            <a:stretch/>
          </p:blipFill>
          <p:spPr>
            <a:xfrm>
              <a:off x="1371240" y="4622760"/>
              <a:ext cx="6114960" cy="197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"/>
          <p:cNvGrpSpPr/>
          <p:nvPr/>
        </p:nvGrpSpPr>
        <p:grpSpPr>
          <a:xfrm>
            <a:off x="1914480" y="2549520"/>
            <a:ext cx="5257800" cy="155880"/>
            <a:chOff x="1914480" y="2549520"/>
            <a:chExt cx="5257800" cy="155880"/>
          </a:xfrm>
        </p:grpSpPr>
        <p:grpSp>
          <p:nvGrpSpPr>
            <p:cNvPr id="168" name=""/>
            <p:cNvGrpSpPr/>
            <p:nvPr/>
          </p:nvGrpSpPr>
          <p:grpSpPr>
            <a:xfrm>
              <a:off x="1914480" y="2571840"/>
              <a:ext cx="2766960" cy="114120"/>
              <a:chOff x="1914480" y="2571840"/>
              <a:chExt cx="2766960" cy="114120"/>
            </a:xfrm>
          </p:grpSpPr>
          <p:sp>
            <p:nvSpPr>
              <p:cNvPr id="169" name=""/>
              <p:cNvSpPr/>
              <p:nvPr/>
            </p:nvSpPr>
            <p:spPr>
              <a:xfrm>
                <a:off x="1990800" y="2629080"/>
                <a:ext cx="2614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914480" y="257184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60" y="0"/>
                    </a:moveTo>
                    <a:lnTo>
                      <a:pt x="0" y="36"/>
                    </a:lnTo>
                    <a:lnTo>
                      <a:pt x="60" y="66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586400" y="2581200"/>
                <a:ext cx="9504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0" y="66"/>
                    </a:moveTo>
                    <a:lnTo>
                      <a:pt x="60" y="30"/>
                    </a:lnTo>
                    <a:lnTo>
                      <a:pt x="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3068280" y="2549520"/>
              <a:ext cx="148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4662360" y="2571840"/>
              <a:ext cx="1660680" cy="104760"/>
              <a:chOff x="4662360" y="2571840"/>
              <a:chExt cx="1660680" cy="104760"/>
            </a:xfrm>
          </p:grpSpPr>
          <p:sp>
            <p:nvSpPr>
              <p:cNvPr id="174" name=""/>
              <p:cNvSpPr/>
              <p:nvPr/>
            </p:nvSpPr>
            <p:spPr>
              <a:xfrm flipV="1">
                <a:off x="4738680" y="2619000"/>
                <a:ext cx="15080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662360" y="257184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60" y="0"/>
                    </a:moveTo>
                    <a:lnTo>
                      <a:pt x="0" y="36"/>
                    </a:lnTo>
                    <a:lnTo>
                      <a:pt x="60" y="66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227640" y="257184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0" y="66"/>
                    </a:moveTo>
                    <a:lnTo>
                      <a:pt x="60" y="30"/>
                    </a:lnTo>
                    <a:lnTo>
                      <a:pt x="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6313320" y="2571840"/>
              <a:ext cx="858960" cy="104760"/>
              <a:chOff x="6313320" y="2571840"/>
              <a:chExt cx="858960" cy="104760"/>
            </a:xfrm>
          </p:grpSpPr>
          <p:sp>
            <p:nvSpPr>
              <p:cNvPr id="178" name=""/>
              <p:cNvSpPr/>
              <p:nvPr/>
            </p:nvSpPr>
            <p:spPr>
              <a:xfrm flipV="1">
                <a:off x="6389640" y="2619000"/>
                <a:ext cx="70632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313320" y="257184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60" y="0"/>
                    </a:moveTo>
                    <a:lnTo>
                      <a:pt x="0" y="36"/>
                    </a:lnTo>
                    <a:lnTo>
                      <a:pt x="60" y="66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077240" y="2571840"/>
                <a:ext cx="9504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0" y="66"/>
                    </a:moveTo>
                    <a:lnTo>
                      <a:pt x="60" y="30"/>
                    </a:lnTo>
                    <a:lnTo>
                      <a:pt x="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6564960" y="254952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UD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271120" y="2552760"/>
              <a:ext cx="30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D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49160" y="2743200"/>
            <a:ext cx="6729480" cy="1943280"/>
            <a:chOff x="749160" y="2743200"/>
            <a:chExt cx="6729480" cy="1943280"/>
          </a:xfrm>
        </p:grpSpPr>
        <p:pic>
          <p:nvPicPr>
            <p:cNvPr id="184" name="" descr=""/>
            <p:cNvPicPr/>
            <p:nvPr/>
          </p:nvPicPr>
          <p:blipFill>
            <a:blip r:embed="rId5"/>
            <a:stretch/>
          </p:blipFill>
          <p:spPr>
            <a:xfrm>
              <a:off x="749160" y="2772000"/>
              <a:ext cx="652320" cy="19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6"/>
            <a:stretch/>
          </p:blipFill>
          <p:spPr>
            <a:xfrm>
              <a:off x="1363680" y="2743200"/>
              <a:ext cx="6114960" cy="1943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53960" y="3649680"/>
            <a:ext cx="3998880" cy="25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6080" y="4051440"/>
            <a:ext cx="300816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16080" y="5460840"/>
            <a:ext cx="300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6080" y="5180040"/>
            <a:ext cx="300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16080" y="4897440"/>
            <a:ext cx="300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16080" y="4613400"/>
            <a:ext cx="300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16080" y="4334040"/>
            <a:ext cx="300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16080" y="4051440"/>
            <a:ext cx="300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19400" y="4051440"/>
            <a:ext cx="1440" cy="1692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20920" y="4051440"/>
            <a:ext cx="1800" cy="1692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24240" y="4051440"/>
            <a:ext cx="1800" cy="1692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16080" y="4051440"/>
            <a:ext cx="3008160" cy="1692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16080" y="4051440"/>
            <a:ext cx="1440" cy="1692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82600" y="574344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82600" y="546084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82600" y="518004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82600" y="489744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82600" y="461340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82600" y="433404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82600" y="405144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16080" y="5743440"/>
            <a:ext cx="300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21608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51776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69560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81944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91772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99692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06388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12076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17332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21940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2108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69712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82240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91924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99880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06720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12408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17664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22092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52440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70044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82572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92256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00212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06872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12740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417816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22424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1216080" y="57430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219400" y="57430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220920" y="57430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224240" y="57430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695600" y="5046480"/>
            <a:ext cx="1440" cy="696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95600" y="5046840"/>
            <a:ext cx="3013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96920" y="5046840"/>
            <a:ext cx="1800" cy="696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96920" y="574344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996920" y="4456080"/>
            <a:ext cx="1800" cy="12873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96920" y="4456080"/>
            <a:ext cx="23976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36680" y="4456080"/>
            <a:ext cx="1800" cy="12873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36680" y="574344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236680" y="4689360"/>
            <a:ext cx="1800" cy="10540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36680" y="4689360"/>
            <a:ext cx="2016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689360"/>
            <a:ext cx="1800" cy="10540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438280" y="574344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438280" y="5398560"/>
            <a:ext cx="1800" cy="3445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438280" y="5398920"/>
            <a:ext cx="18576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24040" y="5398920"/>
            <a:ext cx="1800" cy="3445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24040" y="574344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624040" y="5654160"/>
            <a:ext cx="1800" cy="889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24040" y="5654520"/>
            <a:ext cx="1890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13040" y="5654520"/>
            <a:ext cx="1440" cy="889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13040" y="574344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813040" y="5722560"/>
            <a:ext cx="1440" cy="205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13040" y="5722920"/>
            <a:ext cx="2113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24360" y="5722920"/>
            <a:ext cx="1440" cy="205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24360" y="574344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024360" y="5736960"/>
            <a:ext cx="1440" cy="61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24360" y="5737320"/>
            <a:ext cx="1951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19480" y="5737320"/>
            <a:ext cx="1440" cy="61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19480" y="574344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19480" y="574344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19480" y="5743440"/>
            <a:ext cx="2062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25760" y="574344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25760" y="574344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25760" y="574344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25760" y="5743440"/>
            <a:ext cx="18576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11520" y="574344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611520" y="574344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11520" y="574344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11520" y="5743440"/>
            <a:ext cx="21132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22840" y="574344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22840" y="574344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22840" y="574344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22840" y="5743440"/>
            <a:ext cx="22536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48200" y="574344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048200" y="574344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048200" y="574344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048200" y="5743440"/>
            <a:ext cx="1792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230720" y="574344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6960" y="56736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E+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96960" y="53910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.0E+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6960" y="51102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96960" y="48276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5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96960" y="45435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96960" y="42642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5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6960" y="39816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02320" y="584028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38760" y="584028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90320" y="58402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60160" y="58402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478240" y="6002280"/>
            <a:ext cx="24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p [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727000" y="5992920"/>
            <a:ext cx="7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806560" y="600228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16200000">
            <a:off x="-31680" y="4821840"/>
            <a:ext cx="1184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N/dLogDp  [part/s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3960" y="3740040"/>
            <a:ext cx="10400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321640" y="375912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icolo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6080" y="1557360"/>
            <a:ext cx="299880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16080" y="2963880"/>
            <a:ext cx="299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16080" y="2681280"/>
            <a:ext cx="299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16080" y="2400480"/>
            <a:ext cx="299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16080" y="2120760"/>
            <a:ext cx="299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16080" y="1836720"/>
            <a:ext cx="299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16080" y="1557360"/>
            <a:ext cx="299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16160" y="1557360"/>
            <a:ext cx="1440" cy="1685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16240" y="1557360"/>
            <a:ext cx="1800" cy="1685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4880" y="1557360"/>
            <a:ext cx="1440" cy="1685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16080" y="1557360"/>
            <a:ext cx="2998800" cy="16858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16080" y="1557360"/>
            <a:ext cx="1440" cy="1685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182600" y="324324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82600" y="296388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82600" y="268128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82600" y="240048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182600" y="212076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182600" y="183672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82600" y="155736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16080" y="3243240"/>
            <a:ext cx="299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21608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51776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169236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181620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1914480" y="32428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99404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206064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211788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170080" y="32428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21616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251784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690640" y="32428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81628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914560" y="32428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992320" y="32428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6072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11796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170160" y="32428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3216240" y="32428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51792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69108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381636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391320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992400" y="32428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405936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411804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4170240" y="32428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421488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1216080" y="324288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2216160" y="324288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3216240" y="324288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214880" y="324288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1692360" y="2436840"/>
            <a:ext cx="1440" cy="8064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92360" y="2436840"/>
            <a:ext cx="30168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94040" y="2436840"/>
            <a:ext cx="1440" cy="8064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94040" y="324324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1994040" y="1800360"/>
            <a:ext cx="1440" cy="14428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94040" y="1800360"/>
            <a:ext cx="2394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33440" y="1800360"/>
            <a:ext cx="1800" cy="14428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33440" y="324324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2233440" y="2239560"/>
            <a:ext cx="1800" cy="10033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33440" y="2239920"/>
            <a:ext cx="19872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32160" y="2239920"/>
            <a:ext cx="1440" cy="10033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32160" y="324324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2432160" y="3045960"/>
            <a:ext cx="1440" cy="1969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432160" y="3046320"/>
            <a:ext cx="1886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620800" y="3046320"/>
            <a:ext cx="1800" cy="1969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620800" y="324324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2620800" y="3209400"/>
            <a:ext cx="1800" cy="334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620800" y="3209760"/>
            <a:ext cx="18576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806560" y="3209760"/>
            <a:ext cx="1800" cy="334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806560" y="324324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806560" y="3231720"/>
            <a:ext cx="1800" cy="111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06560" y="3232080"/>
            <a:ext cx="21132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17880" y="3232080"/>
            <a:ext cx="1440" cy="111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17880" y="324324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017880" y="3241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017880" y="3241800"/>
            <a:ext cx="1951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213000" y="32418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13000" y="324324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13000" y="324324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13000" y="3243240"/>
            <a:ext cx="2066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419640" y="324324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493560" y="1316160"/>
            <a:ext cx="8643960" cy="4881600"/>
            <a:chOff x="493560" y="1316160"/>
            <a:chExt cx="8643960" cy="4881600"/>
          </a:xfrm>
        </p:grpSpPr>
        <p:sp>
          <p:nvSpPr>
            <p:cNvPr id="387" name=""/>
            <p:cNvSpPr/>
            <p:nvPr/>
          </p:nvSpPr>
          <p:spPr>
            <a:xfrm>
              <a:off x="341964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1964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419640" y="3243240"/>
              <a:ext cx="1854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0504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0504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0504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605040" y="3243240"/>
              <a:ext cx="20808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1312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1312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1312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813120" y="3243240"/>
              <a:ext cx="22536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03848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03848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3848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38480" y="3243240"/>
              <a:ext cx="1796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22100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6960" y="317340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0E+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96960" y="289404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.5E+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96960" y="261144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.0E+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96960" y="233028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.5E+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96960" y="205092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.0E+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96960" y="176688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.3E+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96960" y="148752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.5E+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102320" y="33415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0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35520" y="334152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83840" y="3341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50440" y="33415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65280" y="3398760"/>
              <a:ext cx="24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Dp [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715840" y="3389400"/>
              <a:ext cx="7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795400" y="3398760"/>
              <a:ext cx="15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16200000">
              <a:off x="-22320" y="2309040"/>
              <a:ext cx="1184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dN/dLogDp  [part/s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554360" y="1316160"/>
              <a:ext cx="4580280" cy="25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465880" y="1560600"/>
              <a:ext cx="3197160" cy="16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465880" y="2963880"/>
              <a:ext cx="3197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465880" y="2684520"/>
              <a:ext cx="3197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465880" y="2403360"/>
              <a:ext cx="3197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465880" y="2120760"/>
              <a:ext cx="3197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465880" y="1839960"/>
              <a:ext cx="3197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465880" y="1560600"/>
              <a:ext cx="3197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532560" y="1560600"/>
              <a:ext cx="1440" cy="1682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96360" y="1560600"/>
              <a:ext cx="1440" cy="1682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663040" y="1560600"/>
              <a:ext cx="1440" cy="1682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465880" y="1560600"/>
              <a:ext cx="3197160" cy="16826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465880" y="1560600"/>
              <a:ext cx="1440" cy="1682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30960" y="324324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430960" y="296388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30960" y="268452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430960" y="2403360"/>
              <a:ext cx="34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430960" y="2120760"/>
              <a:ext cx="34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430960" y="183996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430960" y="156060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465880" y="3243240"/>
              <a:ext cx="3197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546588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578484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597384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610884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6208560" y="3242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629460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6367320" y="3242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642780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6483240" y="3242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653256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6851520" y="3242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7040520" y="3242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7172280" y="3242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727560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736128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43112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7491240" y="3242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754704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759636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791856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810432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8238960" y="3242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8342280" y="3242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8424720" y="3242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8497800" y="3242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855828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8613720" y="3242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866304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5465880" y="324288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6532560" y="324288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7596360" y="324288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8663040" y="324288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5973840" y="2379240"/>
              <a:ext cx="1440" cy="8636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973840" y="2379600"/>
              <a:ext cx="320760" cy="180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294600" y="2379600"/>
              <a:ext cx="1440" cy="8636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29460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6294600" y="2004840"/>
              <a:ext cx="1440" cy="123840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294600" y="2004840"/>
              <a:ext cx="255600" cy="180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550200" y="2004840"/>
              <a:ext cx="1440" cy="123840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55020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6550200" y="2406600"/>
              <a:ext cx="1440" cy="8366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50200" y="2406600"/>
              <a:ext cx="214200" cy="180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764400" y="2406600"/>
              <a:ext cx="1440" cy="8366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76440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6764400" y="2847960"/>
              <a:ext cx="1440" cy="39528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764400" y="2847960"/>
              <a:ext cx="19692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961320" y="2847960"/>
              <a:ext cx="1440" cy="39528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96132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6961320" y="3146040"/>
              <a:ext cx="1440" cy="968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961320" y="3146400"/>
              <a:ext cx="2016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162920" y="3146400"/>
              <a:ext cx="1440" cy="968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92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7162920" y="3222360"/>
              <a:ext cx="1440" cy="2052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162920" y="3222720"/>
              <a:ext cx="22212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385040" y="3222720"/>
              <a:ext cx="1440" cy="2052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38504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7385040" y="324180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385040" y="3241800"/>
              <a:ext cx="20808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593120" y="324180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59312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59312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593120" y="3243240"/>
              <a:ext cx="22212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81524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1524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81524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815240" y="3243240"/>
              <a:ext cx="19512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01036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01036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01036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010360" y="3243240"/>
              <a:ext cx="22248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23284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23284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23284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232840" y="3243240"/>
              <a:ext cx="244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47728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47728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47728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477280" y="3243240"/>
              <a:ext cx="1890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66916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944960" y="317340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0E+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944960" y="289404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.0E+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44960" y="261288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.0E+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944960" y="233352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.5E+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944960" y="205092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.0E+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944960" y="177012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.5E+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944960" y="149076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.0E+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352120" y="33415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0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452280" y="334152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565400" y="3341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597160" y="33415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31000" y="3411360"/>
              <a:ext cx="24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Dp [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79760" y="3402000"/>
              <a:ext cx="7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159320" y="3411360"/>
              <a:ext cx="15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16200000">
              <a:off x="4217760" y="2326320"/>
              <a:ext cx="1184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dN/dLogDp  [part/s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554360" y="3649680"/>
              <a:ext cx="4583160" cy="25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459400" y="4048200"/>
              <a:ext cx="3236760" cy="16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459400" y="5402160"/>
              <a:ext cx="3236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459400" y="5064120"/>
              <a:ext cx="323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459400" y="4724280"/>
              <a:ext cx="3236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459400" y="4386240"/>
              <a:ext cx="323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59400" y="4048200"/>
              <a:ext cx="323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37240" y="4048200"/>
              <a:ext cx="1800" cy="169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616880" y="4048200"/>
              <a:ext cx="1440" cy="169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696160" y="4048200"/>
              <a:ext cx="1800" cy="169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459400" y="4048200"/>
              <a:ext cx="3236760" cy="16923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459400" y="4048200"/>
              <a:ext cx="1440" cy="169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425920" y="5740560"/>
              <a:ext cx="33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425920" y="5402160"/>
              <a:ext cx="33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25920" y="5064120"/>
              <a:ext cx="33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425920" y="4724280"/>
              <a:ext cx="33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425920" y="4386240"/>
              <a:ext cx="33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425920" y="4048200"/>
              <a:ext cx="33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459400" y="5740560"/>
              <a:ext cx="323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45940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578484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597384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610884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6211800" y="5740560"/>
              <a:ext cx="18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6297480" y="5740560"/>
              <a:ext cx="18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6370560" y="5740560"/>
              <a:ext cx="18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643428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48972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6537240" y="5740560"/>
              <a:ext cx="18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686448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7053120" y="5740560"/>
              <a:ext cx="18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718668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729144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737568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745020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7513560" y="5740560"/>
              <a:ext cx="18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7567560" y="5740560"/>
              <a:ext cx="18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761688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7943760" y="5740560"/>
              <a:ext cx="18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813276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8265960" y="5740560"/>
              <a:ext cx="18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836928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8454960" y="5740560"/>
              <a:ext cx="18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852804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859320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864720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8696160" y="5740560"/>
              <a:ext cx="18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5459400" y="5740560"/>
              <a:ext cx="144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6537240" y="5740560"/>
              <a:ext cx="180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7616880" y="5740560"/>
              <a:ext cx="144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8696160" y="5740560"/>
              <a:ext cx="180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5973840" y="4638240"/>
              <a:ext cx="1440" cy="110196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973840" y="4638600"/>
              <a:ext cx="323640" cy="180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97480" y="4638600"/>
              <a:ext cx="1800" cy="110196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6297480" y="57405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6297480" y="4890960"/>
            <a:ext cx="1800" cy="849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297480" y="4890960"/>
            <a:ext cx="2588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56320" y="4890960"/>
            <a:ext cx="1800" cy="849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556320" y="57405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6556320" y="5420880"/>
            <a:ext cx="1800" cy="3193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556320" y="5421240"/>
            <a:ext cx="2160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72320" y="5421240"/>
            <a:ext cx="1440" cy="3193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772320" y="57405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6772320" y="5673600"/>
            <a:ext cx="1440" cy="669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72320" y="5673600"/>
            <a:ext cx="2016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973920" y="5673600"/>
            <a:ext cx="1440" cy="669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973920" y="57405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973920" y="5726160"/>
            <a:ext cx="1440" cy="144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973920" y="5726160"/>
            <a:ext cx="2048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178760" y="5726160"/>
            <a:ext cx="1440" cy="144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178760" y="57405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7178760" y="5736960"/>
            <a:ext cx="1440" cy="32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178760" y="5737320"/>
            <a:ext cx="2253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404120" y="5737320"/>
            <a:ext cx="1440" cy="32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404120" y="57405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404120" y="57405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404120" y="5740560"/>
            <a:ext cx="20628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610400" y="57405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610400" y="57405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610400" y="57405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610400" y="5740560"/>
            <a:ext cx="2253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835760" y="57405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835760" y="57405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835760" y="57405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835760" y="5740560"/>
            <a:ext cx="2016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037360" y="57405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037360" y="57405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8037360" y="57405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037360" y="5740560"/>
            <a:ext cx="2257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8263080" y="57405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263080" y="57405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263080" y="57405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263080" y="5740560"/>
            <a:ext cx="244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8507520" y="57405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507520" y="57405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507520" y="57405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507520" y="5740560"/>
            <a:ext cx="19188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702640" y="57405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993920" y="567072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E+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993920" y="533232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993920" y="499428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993920" y="46530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993920" y="43164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993920" y="39783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0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388120" y="583740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498000" y="58374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618320" y="58374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8669160" y="583740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837480" y="6002280"/>
            <a:ext cx="24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p [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135200" y="5992920"/>
            <a:ext cx="7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206840" y="600228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4209840" y="4821840"/>
            <a:ext cx="1184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N/dLogDp  [part/s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664160" y="3736800"/>
            <a:ext cx="1096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703200" y="373392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icolo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502160" y="927000"/>
            <a:ext cx="1440" cy="525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7240" y="3657600"/>
            <a:ext cx="8967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240" y="1182600"/>
            <a:ext cx="8958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04920" y="1030320"/>
            <a:ext cx="1440" cy="50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1760" y="1182600"/>
            <a:ext cx="1006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70880" y="125748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icolo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621320" y="1265400"/>
            <a:ext cx="838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563520" y="125748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icolo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735600" y="622440"/>
            <a:ext cx="22892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2120" y="152280"/>
            <a:ext cx="8088480" cy="1346040"/>
            <a:chOff x="762120" y="152280"/>
            <a:chExt cx="8088480" cy="1346040"/>
          </a:xfrm>
        </p:grpSpPr>
        <p:sp>
          <p:nvSpPr>
            <p:cNvPr id="657" name=""/>
            <p:cNvSpPr/>
            <p:nvPr/>
          </p:nvSpPr>
          <p:spPr>
            <a:xfrm>
              <a:off x="762120" y="152280"/>
              <a:ext cx="666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 u="sng">
                  <a:solidFill>
                    <a:srgbClr val="000000"/>
                  </a:solidFill>
                  <a:uFillTx/>
                  <a:latin typeface="Arial"/>
                </a:rPr>
                <a:t>Distribuzione dimensionale del particolato in numer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491520" y="584280"/>
              <a:ext cx="212004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iclo:      TI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                                          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493680" y="838080"/>
              <a:ext cx="235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Gasolio: convenzion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553080" y="838080"/>
            <a:ext cx="121932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347760" y="3649680"/>
            <a:ext cx="405612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192320" y="4106880"/>
            <a:ext cx="304632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192320" y="5389560"/>
            <a:ext cx="304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192320" y="5068800"/>
            <a:ext cx="304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192320" y="4746600"/>
            <a:ext cx="304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192320" y="4425840"/>
            <a:ext cx="304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192320" y="4106880"/>
            <a:ext cx="304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206800" y="4106880"/>
            <a:ext cx="1440" cy="160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24160" y="4106880"/>
            <a:ext cx="1800" cy="160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38640" y="4106880"/>
            <a:ext cx="1440" cy="160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192320" y="4106880"/>
            <a:ext cx="3046320" cy="16034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192320" y="4106880"/>
            <a:ext cx="1440" cy="160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158840" y="571032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158840" y="538956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158840" y="506880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158840" y="474660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158840" y="442584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158840" y="410688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192320" y="5710320"/>
            <a:ext cx="304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119232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149688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167652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180504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190188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198108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205092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210996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216072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220680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251460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269064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281952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291636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299880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306540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312408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317484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322416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352908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370836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383364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393372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401328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408132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414180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419400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423864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1192320" y="571032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2206800" y="571032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3224160" y="571032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4238640" y="571032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1676520" y="5121360"/>
            <a:ext cx="1440" cy="5889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676520" y="5121360"/>
            <a:ext cx="3045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981080" y="5121360"/>
            <a:ext cx="1800" cy="5889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981080" y="571032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1981080" y="4664160"/>
            <a:ext cx="1800" cy="10461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981080" y="4664160"/>
            <a:ext cx="2430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224080" y="4664160"/>
            <a:ext cx="1440" cy="10461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22408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2224080" y="4950000"/>
            <a:ext cx="1440" cy="7603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224080" y="4950000"/>
            <a:ext cx="2048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428920" y="4950000"/>
            <a:ext cx="1440" cy="7603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2892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2428920" y="5482800"/>
            <a:ext cx="1440" cy="2271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428920" y="5483160"/>
            <a:ext cx="1890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617920" y="5483160"/>
            <a:ext cx="1440" cy="2271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61792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2617920" y="5654160"/>
            <a:ext cx="1440" cy="55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617920" y="5654520"/>
            <a:ext cx="1918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809800" y="5654520"/>
            <a:ext cx="1800" cy="55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809800" y="571032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2809800" y="5694480"/>
            <a:ext cx="1800" cy="158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809800" y="5694480"/>
            <a:ext cx="2127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022560" y="5694480"/>
            <a:ext cx="1800" cy="158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022560" y="571032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3022560" y="5706720"/>
            <a:ext cx="1800" cy="32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022560" y="5707080"/>
            <a:ext cx="19548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218040" y="5707080"/>
            <a:ext cx="1440" cy="32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21804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1804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218040" y="5710320"/>
            <a:ext cx="2142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43224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43224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43224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432240" y="5710320"/>
            <a:ext cx="1857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61800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61800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61800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618000" y="5710320"/>
            <a:ext cx="2127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83076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83076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83076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30760" y="5710320"/>
            <a:ext cx="2286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05936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05936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5936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59360" y="5710320"/>
            <a:ext cx="1825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24512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71400" y="563868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E+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71400" y="531972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71400" y="49989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71400" y="46767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71400" y="43560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71400" y="40356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078560" y="580716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126160" y="580716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93560" y="580716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174200" y="580716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475000" y="6008760"/>
            <a:ext cx="24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p [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723760" y="5999040"/>
            <a:ext cx="7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803320" y="600876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rot="16200000">
            <a:off x="-55440" y="4834080"/>
            <a:ext cx="1184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N/dLogDp  [part/s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90600" y="3743280"/>
            <a:ext cx="10508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197000" y="1555920"/>
            <a:ext cx="3054240" cy="17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197000" y="2841480"/>
            <a:ext cx="3054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197000" y="2411280"/>
            <a:ext cx="3054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197000" y="1984320"/>
            <a:ext cx="3054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197000" y="1555920"/>
            <a:ext cx="3054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216160" y="1555920"/>
            <a:ext cx="1440" cy="171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233880" y="1555920"/>
            <a:ext cx="1440" cy="171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251240" y="1555920"/>
            <a:ext cx="1800" cy="171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197000" y="1555920"/>
            <a:ext cx="3054240" cy="17128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197000" y="1555920"/>
            <a:ext cx="1440" cy="171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163520" y="326880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163520" y="284148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163520" y="241128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163520" y="198432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163520" y="155592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197000" y="3268800"/>
            <a:ext cx="3054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119700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150480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168264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180972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190800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199080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205740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211788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217008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221616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252396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270036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282888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292572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300816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307512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13704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318780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323388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354168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371808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384660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394344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402588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409248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415440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420516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425124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1197000" y="326880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2216160" y="326880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3233880" y="326880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4251240" y="326880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1682640" y="2738160"/>
            <a:ext cx="1800" cy="530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682640" y="2738520"/>
            <a:ext cx="3081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990800" y="2738520"/>
            <a:ext cx="1440" cy="530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99080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1990800" y="1972800"/>
            <a:ext cx="1440" cy="12956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990800" y="1973160"/>
            <a:ext cx="2426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233440" y="1973160"/>
            <a:ext cx="1800" cy="12956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233440" y="32688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2233440" y="2152800"/>
            <a:ext cx="1800" cy="11160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233440" y="2152800"/>
            <a:ext cx="2048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438280" y="2152800"/>
            <a:ext cx="1800" cy="11160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438280" y="32688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2438280" y="3026880"/>
            <a:ext cx="1800" cy="2415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438280" y="3027240"/>
            <a:ext cx="1890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627280" y="3027240"/>
            <a:ext cx="1800" cy="2415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627280" y="32688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2627280" y="3234960"/>
            <a:ext cx="1800" cy="334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627280" y="3235320"/>
            <a:ext cx="1922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819520" y="3235320"/>
            <a:ext cx="1440" cy="334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81952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2819520" y="3255840"/>
            <a:ext cx="1440" cy="129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819520" y="3255840"/>
            <a:ext cx="21276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032280" y="3255840"/>
            <a:ext cx="1440" cy="129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03228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3032280" y="3265200"/>
            <a:ext cx="1440" cy="32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032280" y="3265560"/>
            <a:ext cx="1983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230640" y="3265560"/>
            <a:ext cx="1440" cy="32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23064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23064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230640" y="3268800"/>
            <a:ext cx="2095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44016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44016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44016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40160" y="3268800"/>
            <a:ext cx="190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3060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63060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63060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630600" y="3268800"/>
            <a:ext cx="2127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84336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84336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84336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843360" y="3268800"/>
            <a:ext cx="2286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07196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07196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07196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071960" y="3268800"/>
            <a:ext cx="1825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25772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77880" y="31989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E+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77880" y="277164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77880" y="234144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0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77880" y="191448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5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77880" y="148608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083240" y="336564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135520" y="336564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202920" y="336564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187160" y="336564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475000" y="3421080"/>
            <a:ext cx="24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p [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723760" y="3411360"/>
            <a:ext cx="7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803320" y="342108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rot="16200000">
            <a:off x="-49320" y="2337480"/>
            <a:ext cx="1184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N/dLogDp  [part/s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599000" y="1290600"/>
            <a:ext cx="4538520" cy="25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464080" y="1582560"/>
            <a:ext cx="312120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464080" y="2944800"/>
            <a:ext cx="3121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464080" y="2603520"/>
            <a:ext cx="3121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464080" y="2265480"/>
            <a:ext cx="3121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464080" y="1924200"/>
            <a:ext cx="3121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464080" y="1582560"/>
            <a:ext cx="3121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504120" y="1582560"/>
            <a:ext cx="1440" cy="1703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545240" y="1582560"/>
            <a:ext cx="1800" cy="1703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8585280" y="1582560"/>
            <a:ext cx="1440" cy="1703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464080" y="1582560"/>
            <a:ext cx="3121200" cy="17035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464080" y="1582560"/>
            <a:ext cx="1800" cy="1703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430960" y="328608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430960" y="294480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430960" y="260352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430960" y="226548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430960" y="192420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430960" y="158256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464080" y="3286080"/>
            <a:ext cx="3121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546408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577836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596124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609300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619272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627552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634212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640404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645804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650412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V="1">
            <a:off x="681840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700092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713088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723276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731520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738504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744552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749772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754524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785664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804240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817092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827100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835344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842328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848520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853596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858528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5464080" y="328572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6504120" y="328572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7545240" y="328572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8585280" y="328572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5961240" y="2304720"/>
            <a:ext cx="1440" cy="9810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961240" y="2305080"/>
            <a:ext cx="31428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75520" y="2305080"/>
            <a:ext cx="1440" cy="9810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27552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V="1">
            <a:off x="6275520" y="2142720"/>
            <a:ext cx="1440" cy="11430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275520" y="2143080"/>
            <a:ext cx="2458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521400" y="2143080"/>
            <a:ext cx="1800" cy="11430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52140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6521400" y="2280960"/>
            <a:ext cx="1800" cy="10047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521400" y="2281320"/>
            <a:ext cx="2113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732720" y="2281320"/>
            <a:ext cx="1440" cy="10047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73272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6732720" y="2752560"/>
            <a:ext cx="1440" cy="5335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732720" y="2752560"/>
            <a:ext cx="19512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927840" y="2752560"/>
            <a:ext cx="1440" cy="5335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92784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6927840" y="3133440"/>
            <a:ext cx="1440" cy="152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927840" y="3133800"/>
            <a:ext cx="1922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120080" y="3133800"/>
            <a:ext cx="1440" cy="152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12008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7120080" y="3255840"/>
            <a:ext cx="1440" cy="302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120080" y="3255840"/>
            <a:ext cx="2188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338960" y="3255840"/>
            <a:ext cx="1800" cy="302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33896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7338960" y="3279600"/>
            <a:ext cx="1800" cy="64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338960" y="3279600"/>
            <a:ext cx="2016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540560" y="3279600"/>
            <a:ext cx="1800" cy="64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54056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54056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540560" y="3286080"/>
            <a:ext cx="2160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75656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75656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775656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756560" y="3286080"/>
            <a:ext cx="19512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95168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95168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95168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951680" y="3286080"/>
            <a:ext cx="2160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816768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816768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816768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8167680" y="3286080"/>
            <a:ext cx="2350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840276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840276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840276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8402760" y="3286080"/>
            <a:ext cx="18576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859140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944960" y="321624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E+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944960" y="28749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944960" y="253368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944960" y="219564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944960" y="18543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44960" y="151272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350320" y="338472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423480" y="338472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514640" y="33847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8520840" y="338472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792840" y="3454560"/>
            <a:ext cx="24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p [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043400" y="3444840"/>
            <a:ext cx="7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122960" y="345456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rot="16200000">
            <a:off x="4215960" y="2359800"/>
            <a:ext cx="1184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N/dLogDp  [part/s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599000" y="3649680"/>
            <a:ext cx="454176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460840" y="4106880"/>
            <a:ext cx="3146760" cy="15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460840" y="5380200"/>
            <a:ext cx="3146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460840" y="5064120"/>
            <a:ext cx="3146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460840" y="4743360"/>
            <a:ext cx="3146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460840" y="4425840"/>
            <a:ext cx="3146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460840" y="4106880"/>
            <a:ext cx="3146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510240" y="4106880"/>
            <a:ext cx="1800" cy="1593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7558200" y="4106880"/>
            <a:ext cx="1440" cy="1593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8607600" y="4106880"/>
            <a:ext cx="1440" cy="1593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460840" y="4106880"/>
            <a:ext cx="3146760" cy="15937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460840" y="4106880"/>
            <a:ext cx="1800" cy="1593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427720" y="570060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427720" y="538020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427720" y="506412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427720" y="474336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427720" y="442584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427720" y="410688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460840" y="5700600"/>
            <a:ext cx="3146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5460840" y="57006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5778360" y="57006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596124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609300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6192720" y="57006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6278400" y="57006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6348240" y="57006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640872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646128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6510240" y="57006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682632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7010280" y="57006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714060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7242120" y="57006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732636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739620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745812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750888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755820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787572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805824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819000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V="1">
            <a:off x="829008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V="1">
            <a:off x="837576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844560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8505720" y="57006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855828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860760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5460840" y="570024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V="1">
            <a:off x="6510240" y="570024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V="1">
            <a:off x="7558200" y="570024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8607600" y="570024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5961240" y="4517640"/>
            <a:ext cx="1440" cy="1182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961240" y="4518000"/>
            <a:ext cx="3171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278400" y="4518000"/>
            <a:ext cx="1800" cy="1182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278400" y="570060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6278400" y="4530600"/>
            <a:ext cx="1800" cy="11700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278400" y="4530600"/>
            <a:ext cx="2494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527880" y="4530600"/>
            <a:ext cx="1440" cy="11700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52788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6527880" y="5249880"/>
            <a:ext cx="1440" cy="4507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527880" y="5249880"/>
            <a:ext cx="2109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738840" y="5249880"/>
            <a:ext cx="1800" cy="4507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738840" y="570060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6738840" y="5608440"/>
            <a:ext cx="1800" cy="9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738840" y="5608800"/>
            <a:ext cx="19548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934320" y="5608800"/>
            <a:ext cx="1440" cy="9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93432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V="1">
            <a:off x="6934320" y="5681160"/>
            <a:ext cx="1440" cy="190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934320" y="5681520"/>
            <a:ext cx="19656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130880" y="5681520"/>
            <a:ext cx="1800" cy="190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130880" y="570060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7130880" y="5694120"/>
            <a:ext cx="1800" cy="61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130880" y="5694480"/>
            <a:ext cx="22068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351560" y="5694480"/>
            <a:ext cx="1800" cy="61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351560" y="570060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7351560" y="5697000"/>
            <a:ext cx="1800" cy="32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7351560" y="5697360"/>
            <a:ext cx="20016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551720" y="5697360"/>
            <a:ext cx="1440" cy="32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55172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55172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7551720" y="5700600"/>
            <a:ext cx="2206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77240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77240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777240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772400" y="5700600"/>
            <a:ext cx="1936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96608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796608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96608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966080" y="5700600"/>
            <a:ext cx="2206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818676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818676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818676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8186760" y="5700600"/>
            <a:ext cx="2332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8420040" y="570060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8420040" y="570060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8420040" y="570060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8420040" y="5700600"/>
            <a:ext cx="190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861228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995720" y="56307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E+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995720" y="53103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995720" y="499284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995720" y="467352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995720" y="43560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995720" y="40356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0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388120" y="579744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467760" y="579744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559640" y="579744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8577000" y="579744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792840" y="6008760"/>
            <a:ext cx="24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p [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093440" y="5999040"/>
            <a:ext cx="7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162200" y="600876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rot="16200000">
            <a:off x="4213080" y="4829760"/>
            <a:ext cx="1184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N/dLogDp  [part/s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648320" y="3765600"/>
            <a:ext cx="105084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546440" y="917640"/>
            <a:ext cx="1800" cy="527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480" y="3654360"/>
            <a:ext cx="9030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0480" y="1125360"/>
            <a:ext cx="89722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5200" y="1003320"/>
            <a:ext cx="1800" cy="512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20840" y="1238400"/>
            <a:ext cx="1042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797360" y="1238400"/>
            <a:ext cx="1041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799320" y="631800"/>
            <a:ext cx="2289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09480" y="152280"/>
            <a:ext cx="7162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Distribuzione dimensionale del particolato in numer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6375240" y="584280"/>
            <a:ext cx="21337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iclo:      ECE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6377760" y="838080"/>
            <a:ext cx="2356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asolio: convenz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400800" y="838080"/>
            <a:ext cx="144792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321640" y="375912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icolo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703200" y="373392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icolo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270880" y="125748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icolo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563520" y="125748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icolo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"/>
          <p:cNvSpPr/>
          <p:nvPr/>
        </p:nvSpPr>
        <p:spPr>
          <a:xfrm>
            <a:off x="343080" y="3648240"/>
            <a:ext cx="4038480" cy="25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155600" y="4059360"/>
            <a:ext cx="309096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155600" y="5492880"/>
            <a:ext cx="3090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1155600" y="5133960"/>
            <a:ext cx="3090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155600" y="4775040"/>
            <a:ext cx="3090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155600" y="4416480"/>
            <a:ext cx="3090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155600" y="4059360"/>
            <a:ext cx="3090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185920" y="4059360"/>
            <a:ext cx="1800" cy="179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218040" y="4059360"/>
            <a:ext cx="1440" cy="179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246560" y="4059360"/>
            <a:ext cx="1440" cy="179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155600" y="4059360"/>
            <a:ext cx="3090960" cy="1790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155600" y="4059360"/>
            <a:ext cx="1800" cy="179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122480" y="585000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122480" y="549288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122480" y="51339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122480" y="477504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122480" y="441648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122480" y="40593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155600" y="5850000"/>
            <a:ext cx="3090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115560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146520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164772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177624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187632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195912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V="1">
            <a:off x="202716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208584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213840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218592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249696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267804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V="1">
            <a:off x="280656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V="1">
            <a:off x="290664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V="1">
            <a:off x="298764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305604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V="1">
            <a:off x="311796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V="1">
            <a:off x="317016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V="1">
            <a:off x="321804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352728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flipV="1">
            <a:off x="370836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383688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393876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flipV="1">
            <a:off x="401796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408780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14648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V="1">
            <a:off x="420048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V="1">
            <a:off x="424656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V="1">
            <a:off x="1155600" y="585000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2185920" y="585000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3218040" y="585000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V="1">
            <a:off x="4246560" y="585000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V="1">
            <a:off x="1647720" y="5273280"/>
            <a:ext cx="1800" cy="5763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1647720" y="5273640"/>
            <a:ext cx="3114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959120" y="5273640"/>
            <a:ext cx="1440" cy="5763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195912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flipV="1">
            <a:off x="1959120" y="4667040"/>
            <a:ext cx="1440" cy="1182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959120" y="4667400"/>
            <a:ext cx="244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203560" y="4667400"/>
            <a:ext cx="1440" cy="1182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20356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2203560" y="4684320"/>
            <a:ext cx="1440" cy="11653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203560" y="4684680"/>
            <a:ext cx="2062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409840" y="4684680"/>
            <a:ext cx="1440" cy="11653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40984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2409840" y="5440320"/>
            <a:ext cx="1440" cy="4096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409840" y="5440320"/>
            <a:ext cx="1936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603520" y="5440320"/>
            <a:ext cx="1440" cy="4096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60352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2603520" y="5746320"/>
            <a:ext cx="1440" cy="1033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603520" y="5746680"/>
            <a:ext cx="1936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797200" y="5746680"/>
            <a:ext cx="1440" cy="1033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79720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2797200" y="5824080"/>
            <a:ext cx="1440" cy="255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797200" y="5824440"/>
            <a:ext cx="217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014640" y="5824440"/>
            <a:ext cx="1440" cy="255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01464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V="1">
            <a:off x="3014640" y="5844960"/>
            <a:ext cx="1440" cy="46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014640" y="5845320"/>
            <a:ext cx="1983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213000" y="5845320"/>
            <a:ext cx="1800" cy="46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21300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3213000" y="584784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213000" y="5848200"/>
            <a:ext cx="21456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427560" y="58482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42756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42756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427560" y="5850000"/>
            <a:ext cx="190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61800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61800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61800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618000" y="5850000"/>
            <a:ext cx="2156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83364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83364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83364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833640" y="5850000"/>
            <a:ext cx="2336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06728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06728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06728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067280" y="5850000"/>
            <a:ext cx="1807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25304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52320" y="57834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0E+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52320" y="542592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,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52320" y="50655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,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52320" y="470844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,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52320" y="434988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,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52320" y="39924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0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046520" y="594360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107080" y="59436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187080" y="59436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183920" y="594360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467080" y="6013440"/>
            <a:ext cx="24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p [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711160" y="6004080"/>
            <a:ext cx="7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781000" y="601344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rot="16200000">
            <a:off x="-69840" y="4852080"/>
            <a:ext cx="1184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N/dLogDp  [part/s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95280" y="3741840"/>
            <a:ext cx="102240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154160" y="1596960"/>
            <a:ext cx="30924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154160" y="3021120"/>
            <a:ext cx="3092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154160" y="2736720"/>
            <a:ext cx="3092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154160" y="2451240"/>
            <a:ext cx="3092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154160" y="2165400"/>
            <a:ext cx="3092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154160" y="1881360"/>
            <a:ext cx="3092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154160" y="1596960"/>
            <a:ext cx="3092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185920" y="1596960"/>
            <a:ext cx="1800" cy="1708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216240" y="1596960"/>
            <a:ext cx="1800" cy="1708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246560" y="1596960"/>
            <a:ext cx="1440" cy="1708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154160" y="1596960"/>
            <a:ext cx="3092400" cy="17082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154160" y="1596960"/>
            <a:ext cx="1440" cy="1708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120680" y="330516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120680" y="302112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120680" y="273672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120680" y="245124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120680" y="216540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120680" y="188136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120680" y="159696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154160" y="3305160"/>
            <a:ext cx="3092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1154160" y="330480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146520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V="1">
            <a:off x="1646280" y="330480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1774800" y="330480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V="1">
            <a:off x="1874880" y="330480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V="1">
            <a:off x="195732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V="1">
            <a:off x="2025720" y="330480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208584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2138400" y="330480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flipV="1">
            <a:off x="218592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 flipV="1">
            <a:off x="2495520" y="330480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>
            <a:off x="267804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280656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V="1">
            <a:off x="290664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V="1">
            <a:off x="298764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V="1">
            <a:off x="3056040" y="330480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311616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3168720" y="330480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321624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V="1">
            <a:off x="352728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370836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383688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393696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4017960" y="330480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V="1">
            <a:off x="4087800" y="330480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V="1">
            <a:off x="414648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V="1">
            <a:off x="420048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4246560" y="330480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V="1">
            <a:off x="1154160" y="330480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V="1">
            <a:off x="2185920" y="330480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3216240" y="330480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4246560" y="330480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V="1">
            <a:off x="1646280" y="2801880"/>
            <a:ext cx="1440" cy="503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1646280" y="2801880"/>
            <a:ext cx="3110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957320" y="2801880"/>
            <a:ext cx="1800" cy="503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1957320" y="33051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V="1">
            <a:off x="1957320" y="2153880"/>
            <a:ext cx="1800" cy="11509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957320" y="2154240"/>
            <a:ext cx="244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201760" y="2154240"/>
            <a:ext cx="1800" cy="11509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201760" y="33051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V="1">
            <a:off x="2201760" y="1901880"/>
            <a:ext cx="1800" cy="1403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201760" y="1901880"/>
            <a:ext cx="2066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408400" y="1901880"/>
            <a:ext cx="1440" cy="1403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2408400" y="33051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V="1">
            <a:off x="2408400" y="2855880"/>
            <a:ext cx="1440" cy="449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408400" y="2855880"/>
            <a:ext cx="19512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603520" y="2855880"/>
            <a:ext cx="1440" cy="449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603520" y="33051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V="1">
            <a:off x="2603520" y="3233880"/>
            <a:ext cx="1440" cy="71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603520" y="3233880"/>
            <a:ext cx="1922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795760" y="3233880"/>
            <a:ext cx="1440" cy="71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795760" y="33051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V="1">
            <a:off x="2795760" y="3281400"/>
            <a:ext cx="1440" cy="237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795760" y="3281400"/>
            <a:ext cx="217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013200" y="3281400"/>
            <a:ext cx="1440" cy="237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013200" y="33051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V="1">
            <a:off x="3013200" y="3297240"/>
            <a:ext cx="1440" cy="79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013200" y="3297240"/>
            <a:ext cx="1983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211560" y="3297240"/>
            <a:ext cx="1440" cy="79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211560" y="33051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3211560" y="33037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211560" y="3303720"/>
            <a:ext cx="2160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427560" y="33037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427560" y="33051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427560" y="33051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427560" y="3305160"/>
            <a:ext cx="190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618000" y="33051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618000" y="33051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618000" y="33051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618000" y="3305160"/>
            <a:ext cx="2156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833640" y="33051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833640" y="33051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833640" y="33051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33640" y="3305160"/>
            <a:ext cx="2318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065480" y="33051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065480" y="33051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065480" y="33051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065480" y="3305160"/>
            <a:ext cx="1825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253040" y="33051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50880" y="32385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0E+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50880" y="29541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,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50880" y="267012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0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50880" y="238428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5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50880" y="20988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,0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50880" y="18144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,5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50880" y="15303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,0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045080" y="340056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107080" y="340056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185640" y="340056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183920" y="340056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455920" y="3446640"/>
            <a:ext cx="24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p [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701440" y="3438360"/>
            <a:ext cx="7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2771640" y="344664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rot="16200000">
            <a:off x="-71280" y="2348640"/>
            <a:ext cx="1184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N/dLogDp  [part/s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578480" y="1292400"/>
            <a:ext cx="4516200" cy="25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5405400" y="1577880"/>
            <a:ext cx="31194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405400" y="2944800"/>
            <a:ext cx="3119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5405400" y="2602080"/>
            <a:ext cx="3119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405400" y="2262240"/>
            <a:ext cx="3119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405400" y="1919160"/>
            <a:ext cx="3119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405400" y="1577880"/>
            <a:ext cx="3119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445080" y="1577880"/>
            <a:ext cx="1800" cy="1708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7486560" y="1577880"/>
            <a:ext cx="1800" cy="1708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8524800" y="1577880"/>
            <a:ext cx="1800" cy="1708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405400" y="1577880"/>
            <a:ext cx="3119400" cy="17082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5405400" y="1577880"/>
            <a:ext cx="1800" cy="1708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372280" y="328608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372280" y="294480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372280" y="260208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372280" y="226224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372280" y="191916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5372280" y="157788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405400" y="3286080"/>
            <a:ext cx="3119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 flipV="1">
            <a:off x="540540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571824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flipV="1">
            <a:off x="590220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V="1">
            <a:off x="603252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 flipV="1">
            <a:off x="613260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flipV="1">
            <a:off x="621504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V="1">
            <a:off x="628488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 flipV="1">
            <a:off x="634536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 flipV="1">
            <a:off x="639756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 flipV="1">
            <a:off x="644508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V="1">
            <a:off x="675972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flipV="1">
            <a:off x="694044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 flipV="1">
            <a:off x="707220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 flipV="1">
            <a:off x="717228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V="1">
            <a:off x="725472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 flipV="1">
            <a:off x="732456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738504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V="1">
            <a:off x="743760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 flipV="1">
            <a:off x="748656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 flipV="1">
            <a:off x="779796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 flipV="1">
            <a:off x="798192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811044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821196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829476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 flipV="1">
            <a:off x="836460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 flipV="1">
            <a:off x="842472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 flipV="1">
            <a:off x="847728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 flipV="1">
            <a:off x="852480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V="1">
            <a:off x="5405400" y="328572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6445080" y="328572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flipV="1">
            <a:off x="7486560" y="328572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8524800" y="328572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V="1">
            <a:off x="5902200" y="2814480"/>
            <a:ext cx="1800" cy="471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5902200" y="2814480"/>
            <a:ext cx="3128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215040" y="2814480"/>
            <a:ext cx="1440" cy="471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21504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flipV="1">
            <a:off x="6215040" y="2274480"/>
            <a:ext cx="1440" cy="10112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215040" y="2274840"/>
            <a:ext cx="2476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462720" y="2274840"/>
            <a:ext cx="1440" cy="10112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46272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flipV="1">
            <a:off x="6462720" y="1848960"/>
            <a:ext cx="1440" cy="14367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462720" y="1849320"/>
            <a:ext cx="2080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670800" y="1849320"/>
            <a:ext cx="1440" cy="14367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67080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V="1">
            <a:off x="6670800" y="2190240"/>
            <a:ext cx="1440" cy="10954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6670800" y="2190600"/>
            <a:ext cx="19656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867360" y="2190600"/>
            <a:ext cx="1800" cy="10954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86736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V="1">
            <a:off x="6867360" y="2908080"/>
            <a:ext cx="1800" cy="3776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6867360" y="2908440"/>
            <a:ext cx="19368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7061040" y="2908440"/>
            <a:ext cx="1800" cy="3776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706104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 flipV="1">
            <a:off x="7061040" y="3206880"/>
            <a:ext cx="1800" cy="792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061040" y="3206880"/>
            <a:ext cx="22068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7281720" y="3206880"/>
            <a:ext cx="1800" cy="792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728172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 flipV="1">
            <a:off x="7281720" y="3273120"/>
            <a:ext cx="1800" cy="12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281720" y="3273480"/>
            <a:ext cx="2001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7481880" y="3273480"/>
            <a:ext cx="1440" cy="12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48188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V="1">
            <a:off x="7481880" y="328464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481880" y="3284640"/>
            <a:ext cx="2160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7697880" y="328464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769788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769788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7697880" y="3286080"/>
            <a:ext cx="1918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788976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788976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788976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889760" y="3286080"/>
            <a:ext cx="2160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810576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810576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810576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8105760" y="3286080"/>
            <a:ext cx="2350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834084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834084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834084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8340840" y="3286080"/>
            <a:ext cx="18576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853128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4902120" y="321948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0E+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4902120" y="28782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,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902120" y="253512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,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902120" y="219384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,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902120" y="18525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,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902120" y="151128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0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5298120" y="337968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366240" y="337968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7454160" y="337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8462160" y="337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738840" y="3440160"/>
            <a:ext cx="24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p [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984720" y="3430440"/>
            <a:ext cx="7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7054560" y="344016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rot="16200000">
            <a:off x="4248360" y="2345400"/>
            <a:ext cx="1070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dN/dLogDp  [part/s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578480" y="3648240"/>
            <a:ext cx="4518000" cy="25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5398920" y="4078440"/>
            <a:ext cx="313236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5398920" y="5554800"/>
            <a:ext cx="3132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398920" y="5259240"/>
            <a:ext cx="3132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5398920" y="4964040"/>
            <a:ext cx="3132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5398920" y="4668840"/>
            <a:ext cx="3132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398920" y="4373640"/>
            <a:ext cx="3132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5398920" y="4078440"/>
            <a:ext cx="3132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442200" y="4078440"/>
            <a:ext cx="1440" cy="1771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486560" y="4078440"/>
            <a:ext cx="1800" cy="1771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8531280" y="4078440"/>
            <a:ext cx="1440" cy="1771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5398920" y="4078440"/>
            <a:ext cx="3132360" cy="17715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5398920" y="4078440"/>
            <a:ext cx="1800" cy="1771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365800" y="585000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5365800" y="555480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5365800" y="525924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5365800" y="496404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5365800" y="466884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365800" y="437364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365800" y="407844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5398920" y="5850000"/>
            <a:ext cx="3132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V="1">
            <a:off x="539892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V="1">
            <a:off x="571356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V="1">
            <a:off x="589608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V="1">
            <a:off x="602604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V="1">
            <a:off x="612792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flipV="1">
            <a:off x="621180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flipV="1">
            <a:off x="628164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V="1">
            <a:off x="634212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V="1">
            <a:off x="639432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644220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V="1">
            <a:off x="675792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V="1">
            <a:off x="694044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707220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V="1">
            <a:off x="717228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 flipV="1">
            <a:off x="725472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flipV="1">
            <a:off x="732456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flipV="1">
            <a:off x="738504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V="1">
            <a:off x="743904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748656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V="1">
            <a:off x="780084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V="1">
            <a:off x="798516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V="1">
            <a:off x="811548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V="1">
            <a:off x="821700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 flipV="1">
            <a:off x="829944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V="1">
            <a:off x="836928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flipV="1">
            <a:off x="842976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848376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 flipV="1">
            <a:off x="853128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5398920" y="585000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V="1">
            <a:off x="6442200" y="585000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7486560" y="585000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V="1">
            <a:off x="8531280" y="585000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5896080" y="4322880"/>
            <a:ext cx="1440" cy="15271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5896080" y="4322880"/>
            <a:ext cx="3157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211800" y="4322880"/>
            <a:ext cx="1800" cy="15271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21180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6211800" y="4116240"/>
            <a:ext cx="1800" cy="17337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211800" y="4116240"/>
            <a:ext cx="2494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461280" y="4116240"/>
            <a:ext cx="1440" cy="17337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46128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V="1">
            <a:off x="6461280" y="4941360"/>
            <a:ext cx="1440" cy="908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461280" y="4941720"/>
            <a:ext cx="20772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6669000" y="4941720"/>
            <a:ext cx="1800" cy="908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66900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6669000" y="5554800"/>
            <a:ext cx="1800" cy="2952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669000" y="5554800"/>
            <a:ext cx="1969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6865920" y="5554800"/>
            <a:ext cx="1440" cy="2952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86592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 flipV="1">
            <a:off x="6865920" y="5770080"/>
            <a:ext cx="1440" cy="795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865920" y="5770440"/>
            <a:ext cx="19512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7061040" y="5770440"/>
            <a:ext cx="1800" cy="795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06104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flipV="1">
            <a:off x="7061040" y="5827680"/>
            <a:ext cx="1800" cy="223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7061040" y="5827680"/>
            <a:ext cx="2206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7281720" y="5827680"/>
            <a:ext cx="1800" cy="223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728172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V="1">
            <a:off x="7281720" y="5842080"/>
            <a:ext cx="1800" cy="79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7281720" y="5842080"/>
            <a:ext cx="2016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7483320" y="5842080"/>
            <a:ext cx="1800" cy="79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748332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 flipV="1">
            <a:off x="7483320" y="584784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7483320" y="5848200"/>
            <a:ext cx="2160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7699320" y="584820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69932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769932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7699320" y="5850000"/>
            <a:ext cx="19548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789480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789480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789480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7894800" y="5850000"/>
            <a:ext cx="2156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811044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811044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811044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8110440" y="5850000"/>
            <a:ext cx="2365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834696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834696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834696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8346960" y="5850000"/>
            <a:ext cx="1857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853740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919400" y="57834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0E+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4919400" y="548784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,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4919400" y="519264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0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4919400" y="489744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5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919400" y="460224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,0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919400" y="430704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,5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4919400" y="401148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,0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5315400" y="594360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388560" y="59436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7481160" y="59436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8493840" y="594360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6729480" y="6013440"/>
            <a:ext cx="24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p [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014600" y="6004080"/>
            <a:ext cx="7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7074360" y="601344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 rot="16200000">
            <a:off x="4238640" y="4879440"/>
            <a:ext cx="1070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dN/dLogDp  [part/s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732200" y="3762360"/>
            <a:ext cx="102240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527720" y="920880"/>
            <a:ext cx="1440" cy="526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8680" y="3657600"/>
            <a:ext cx="8994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8680" y="1128600"/>
            <a:ext cx="893448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291960" y="1008000"/>
            <a:ext cx="1800" cy="511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415800" y="1252440"/>
            <a:ext cx="10432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4703760" y="1252440"/>
            <a:ext cx="10350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6858000" y="625320"/>
            <a:ext cx="22874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4" name=""/>
          <p:cNvGrpSpPr/>
          <p:nvPr/>
        </p:nvGrpSpPr>
        <p:grpSpPr>
          <a:xfrm>
            <a:off x="685800" y="152280"/>
            <a:ext cx="8125200" cy="1346040"/>
            <a:chOff x="685800" y="152280"/>
            <a:chExt cx="8125200" cy="1346040"/>
          </a:xfrm>
        </p:grpSpPr>
        <p:sp>
          <p:nvSpPr>
            <p:cNvPr id="1585" name=""/>
            <p:cNvSpPr/>
            <p:nvPr/>
          </p:nvSpPr>
          <p:spPr>
            <a:xfrm>
              <a:off x="685800" y="152280"/>
              <a:ext cx="6705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 u="sng">
                  <a:solidFill>
                    <a:srgbClr val="000000"/>
                  </a:solidFill>
                  <a:uFillTx/>
                  <a:latin typeface="Arial"/>
                </a:rPr>
                <a:t>Distribuzione dimensionale del particolato in numer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451560" y="584280"/>
              <a:ext cx="213372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iclo:      EUDC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                                      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454080" y="838080"/>
              <a:ext cx="235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Gasolio: convenzion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8" name=""/>
          <p:cNvSpPr/>
          <p:nvPr/>
        </p:nvSpPr>
        <p:spPr>
          <a:xfrm>
            <a:off x="6477120" y="838080"/>
            <a:ext cx="160020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2321640" y="375912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icolo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703200" y="373392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icolo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2270880" y="125748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icolo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6563520" y="125748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icolo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"/>
          <p:cNvSpPr/>
          <p:nvPr/>
        </p:nvSpPr>
        <p:spPr>
          <a:xfrm>
            <a:off x="3352680" y="2286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 P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4" name="" descr=""/>
          <p:cNvPicPr/>
          <p:nvPr/>
        </p:nvPicPr>
        <p:blipFill>
          <a:blip r:embed="rId1"/>
          <a:stretch/>
        </p:blipFill>
        <p:spPr>
          <a:xfrm>
            <a:off x="2133720" y="838080"/>
            <a:ext cx="6781680" cy="5610240"/>
          </a:xfrm>
          <a:prstGeom prst="rect">
            <a:avLst/>
          </a:prstGeom>
          <a:ln w="0">
            <a:noFill/>
          </a:ln>
        </p:spPr>
      </p:pic>
      <p:sp>
        <p:nvSpPr>
          <p:cNvPr id="1595" name=""/>
          <p:cNvSpPr/>
          <p:nvPr/>
        </p:nvSpPr>
        <p:spPr>
          <a:xfrm>
            <a:off x="304920" y="1523880"/>
            <a:ext cx="1752480" cy="15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M &lt; 10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304920" y="3276720"/>
            <a:ext cx="1676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M &lt; 1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0" y="5334120"/>
            <a:ext cx="236232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 &lt; PM &lt; 10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724280" y="2895480"/>
            <a:ext cx="1067040" cy="533520"/>
          </a:xfrm>
          <a:prstGeom prst="ellipse">
            <a:avLst/>
          </a:prstGeom>
          <a:noFill/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7543800" y="685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icol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0" name=""/>
          <p:cNvGrpSpPr/>
          <p:nvPr/>
        </p:nvGrpSpPr>
        <p:grpSpPr>
          <a:xfrm>
            <a:off x="3276720" y="3429000"/>
            <a:ext cx="2057400" cy="1816200"/>
            <a:chOff x="3276720" y="3429000"/>
            <a:chExt cx="2057400" cy="1816200"/>
          </a:xfrm>
        </p:grpSpPr>
        <p:sp>
          <p:nvSpPr>
            <p:cNvPr id="1601" name=""/>
            <p:cNvSpPr/>
            <p:nvPr/>
          </p:nvSpPr>
          <p:spPr>
            <a:xfrm flipH="1">
              <a:off x="4343040" y="3429000"/>
              <a:ext cx="685800" cy="9144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276720" y="4419720"/>
              <a:ext cx="2057400" cy="825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5 %           PM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3" name=""/>
          <p:cNvSpPr/>
          <p:nvPr/>
        </p:nvSpPr>
        <p:spPr>
          <a:xfrm>
            <a:off x="1752480" y="685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N/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4" name="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6629400" cy="5867640"/>
          </a:xfrm>
          <a:prstGeom prst="rect">
            <a:avLst/>
          </a:prstGeom>
          <a:ln w="0">
            <a:noFill/>
          </a:ln>
        </p:spPr>
      </p:pic>
      <p:sp>
        <p:nvSpPr>
          <p:cNvPr id="1605" name=""/>
          <p:cNvSpPr/>
          <p:nvPr/>
        </p:nvSpPr>
        <p:spPr>
          <a:xfrm>
            <a:off x="7315200" y="4572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icolo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4648320" y="2819520"/>
            <a:ext cx="1066680" cy="533160"/>
          </a:xfrm>
          <a:prstGeom prst="ellipse">
            <a:avLst/>
          </a:prstGeom>
          <a:noFill/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7" name=""/>
          <p:cNvGrpSpPr/>
          <p:nvPr/>
        </p:nvGrpSpPr>
        <p:grpSpPr>
          <a:xfrm>
            <a:off x="2971800" y="3429000"/>
            <a:ext cx="2057400" cy="1816200"/>
            <a:chOff x="2971800" y="3429000"/>
            <a:chExt cx="2057400" cy="1816200"/>
          </a:xfrm>
        </p:grpSpPr>
        <p:sp>
          <p:nvSpPr>
            <p:cNvPr id="1608" name=""/>
            <p:cNvSpPr/>
            <p:nvPr/>
          </p:nvSpPr>
          <p:spPr>
            <a:xfrm flipH="1">
              <a:off x="4038120" y="3429000"/>
              <a:ext cx="685800" cy="9144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971800" y="4419720"/>
              <a:ext cx="2057400" cy="825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5 %           PM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0" name=""/>
          <p:cNvSpPr/>
          <p:nvPr/>
        </p:nvSpPr>
        <p:spPr>
          <a:xfrm>
            <a:off x="304920" y="1523880"/>
            <a:ext cx="1752480" cy="15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M &lt; 10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304920" y="3276720"/>
            <a:ext cx="1676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M &lt; 1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0" y="5334120"/>
            <a:ext cx="236232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 &lt; PM &lt; 10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3352680" y="2286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 P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"/>
          <p:cNvSpPr/>
          <p:nvPr/>
        </p:nvSpPr>
        <p:spPr>
          <a:xfrm>
            <a:off x="457200" y="533520"/>
            <a:ext cx="8001000" cy="59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Arial"/>
              </a:rPr>
              <a:t>PRINCIPALI CONCLUSIONI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L’emissione in numero di particelle per km percorso del  PM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misurata nello scarico dei quattro autoveicoli diesel provati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è diminuita in modo sensibile man mano che il livello tecnologico degli autoveicoli aumenta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tendeva a diminuire leggermente con la velocità media per i modelli più recenti e in modo sensibile per quello omologato Euro 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dipendeva dalle condizioni di guida dell’autoveicolo (velocità, accelerazion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ha presentato una distribuzione dimensionale log-normale centrata all’interno di diametri aerodinamici compresi tra 40 e 130 n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uò essere classificata come PM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e non come PM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43000" y="304920"/>
            <a:ext cx="7086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GETTO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UMI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                                                  (Il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rticolato fine nell’atmosfera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bana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lane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981080"/>
            <a:ext cx="586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ENTI PROMOTORI E FINANZIATOR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3048120"/>
            <a:ext cx="72392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DAZIONE LOMBARDIA PER L’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E LOMBAR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UNE DI MIL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PA LOMBAR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1905120" y="2743200"/>
            <a:ext cx="5486400" cy="3352320"/>
            <a:chOff x="1905120" y="2743200"/>
            <a:chExt cx="5486400" cy="33523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905120" y="4628880"/>
              <a:ext cx="5486400" cy="146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4904280" y="2743200"/>
              <a:ext cx="162432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2636640" y="2743200"/>
              <a:ext cx="1295280" cy="174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/>
          <p:nvPr/>
        </p:nvSpPr>
        <p:spPr>
          <a:xfrm>
            <a:off x="914400" y="1663560"/>
            <a:ext cx="586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PARTECIPANTI AL PROGRAMMA SPERIMENTALE  DEL PLG 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304920"/>
            <a:ext cx="7086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GETTO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UMI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                                                  (Il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rticolato fine nell’atmosfera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bana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lane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5238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BIETTIVI DEL PGL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200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levare i dati di emissione da sorgenti primarie rappresentative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nti mobi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iscaldamento civile, centrali termoelettriche e inceneritor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5720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atterizzazione dimensionale,  chimica  e morfologica della frazione P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l particolato emesso dagli autoveic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981080"/>
            <a:ext cx="792504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eterminazione dei Fattori di Emissione e Raccolta del Particolato Atmosferico delle sorgenti di combustione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304920"/>
            <a:ext cx="7086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GETTO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UMI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                                                  (Il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rticolato fine nell’atmosfera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bana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lane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905120" y="533520"/>
            <a:ext cx="556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UTOVEICOLI DI PROV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914400" y="1523880"/>
          <a:ext cx="7162920" cy="448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23880"/>
                    <a:ext cx="716292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3360" y="1325520"/>
            <a:ext cx="8839440" cy="5121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159600" y="4756320"/>
            <a:ext cx="1371600" cy="960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219320" y="888840"/>
            <a:ext cx="7238880" cy="3189600"/>
          </a:xfrm>
          <a:prstGeom prst="rect">
            <a:avLst/>
          </a:prstGeom>
          <a:ln w="25560">
            <a:solidFill>
              <a:srgbClr val="ff99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0" y="152280"/>
            <a:ext cx="899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STEMA 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AMPIONAMENT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ANALIS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DELLE EMISSIONI INQUINAN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85800" y="4076640"/>
          <a:ext cx="5311800" cy="2552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076640"/>
                    <a:ext cx="531180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8839080" cy="4552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057400" y="3795840"/>
            <a:ext cx="1676520" cy="9144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4894200"/>
            <a:ext cx="1600200" cy="12193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52280"/>
            <a:ext cx="899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STEMA 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AMPIONAMENT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ANALIS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DELLE EMISSIONI INQUINAN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514600" y="990720"/>
            <a:ext cx="6477120" cy="3533760"/>
            <a:chOff x="2514600" y="990720"/>
            <a:chExt cx="6477120" cy="3533760"/>
          </a:xfrm>
        </p:grpSpPr>
        <p:grpSp>
          <p:nvGrpSpPr>
            <p:cNvPr id="77" name=""/>
            <p:cNvGrpSpPr/>
            <p:nvPr/>
          </p:nvGrpSpPr>
          <p:grpSpPr>
            <a:xfrm>
              <a:off x="3429000" y="990720"/>
              <a:ext cx="5562720" cy="3533760"/>
              <a:chOff x="3429000" y="990720"/>
              <a:chExt cx="5562720" cy="3533760"/>
            </a:xfrm>
          </p:grpSpPr>
          <p:pic>
            <p:nvPicPr>
              <p:cNvPr id="7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29000" y="990720"/>
                <a:ext cx="5486400" cy="3533760"/>
              </a:xfrm>
              <a:prstGeom prst="rect">
                <a:avLst/>
              </a:prstGeom>
              <a:ln w="19080">
                <a:solidFill>
                  <a:srgbClr val="ff9900"/>
                </a:solidFill>
                <a:miter/>
              </a:ln>
            </p:spPr>
          </p:pic>
          <p:sp>
            <p:nvSpPr>
              <p:cNvPr id="79" name=""/>
              <p:cNvSpPr/>
              <p:nvPr/>
            </p:nvSpPr>
            <p:spPr>
              <a:xfrm>
                <a:off x="4800600" y="1066680"/>
                <a:ext cx="4191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ELPI (</a:t>
                </a:r>
                <a:r>
                  <a:rPr b="0" lang="it-IT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E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lectrical </a:t>
                </a:r>
                <a:r>
                  <a:rPr b="0" lang="it-IT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L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ow </a:t>
                </a:r>
                <a:r>
                  <a:rPr b="0" lang="it-IT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P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ressure </a:t>
                </a:r>
                <a:r>
                  <a:rPr b="0" lang="it-IT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I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mpacto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2514600" y="3124080"/>
              <a:ext cx="838080" cy="609840"/>
              <a:chOff x="2514600" y="3124080"/>
              <a:chExt cx="838080" cy="609840"/>
            </a:xfrm>
          </p:grpSpPr>
          <p:sp>
            <p:nvSpPr>
              <p:cNvPr id="81" name=""/>
              <p:cNvSpPr/>
              <p:nvPr/>
            </p:nvSpPr>
            <p:spPr>
              <a:xfrm>
                <a:off x="2514600" y="3124080"/>
                <a:ext cx="8380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514600" y="3124080"/>
                <a:ext cx="0" cy="609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" name=""/>
          <p:cNvGrpSpPr/>
          <p:nvPr/>
        </p:nvGrpSpPr>
        <p:grpSpPr>
          <a:xfrm>
            <a:off x="4038480" y="3530520"/>
            <a:ext cx="3454560" cy="2489400"/>
            <a:chOff x="4038480" y="3530520"/>
            <a:chExt cx="3454560" cy="2489400"/>
          </a:xfrm>
        </p:grpSpPr>
        <p:sp>
          <p:nvSpPr>
            <p:cNvPr id="84" name=""/>
            <p:cNvSpPr/>
            <p:nvPr/>
          </p:nvSpPr>
          <p:spPr>
            <a:xfrm flipV="1">
              <a:off x="4038480" y="4419360"/>
              <a:ext cx="1295640" cy="6858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5486400" y="3581280"/>
              <a:ext cx="1886040" cy="2438640"/>
            </a:xfrm>
            <a:prstGeom prst="rect">
              <a:avLst/>
            </a:prstGeom>
            <a:ln w="25560">
              <a:solidFill>
                <a:srgbClr val="ff9900"/>
              </a:solidFill>
              <a:miter/>
            </a:ln>
          </p:spPr>
        </p:pic>
        <p:sp>
          <p:nvSpPr>
            <p:cNvPr id="86" name=""/>
            <p:cNvSpPr/>
            <p:nvPr/>
          </p:nvSpPr>
          <p:spPr>
            <a:xfrm>
              <a:off x="5587920" y="35305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ICLONE PM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241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AZIONE GRAVIMETRICA DEL P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mg/km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7848720" cy="582948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6705720" y="3886200"/>
            <a:ext cx="1828800" cy="2315520"/>
            <a:chOff x="6705720" y="3886200"/>
            <a:chExt cx="1828800" cy="2315520"/>
          </a:xfrm>
        </p:grpSpPr>
        <p:sp>
          <p:nvSpPr>
            <p:cNvPr id="90" name=""/>
            <p:cNvSpPr/>
            <p:nvPr/>
          </p:nvSpPr>
          <p:spPr>
            <a:xfrm>
              <a:off x="6705720" y="3886200"/>
              <a:ext cx="1752480" cy="1981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05720" y="4012200"/>
              <a:ext cx="182880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ff7c80"/>
                  </a:solidFill>
                  <a:latin typeface="Times New Roman"/>
                </a:rPr>
                <a:t>A = diesel Euro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ffcc99"/>
                  </a:solidFill>
                  <a:latin typeface="Times New Roman"/>
                </a:rPr>
                <a:t>B = diesel Euro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009900"/>
                  </a:solidFill>
                  <a:latin typeface="Times New Roman"/>
                </a:rPr>
                <a:t>C = diesel Euro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3333cc"/>
                  </a:solidFill>
                  <a:latin typeface="Times New Roman"/>
                </a:rPr>
                <a:t>D = diesel Euro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61520" y="990720"/>
            <a:ext cx="1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30720" y="985680"/>
            <a:ext cx="2012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67640" y="122076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67640" y="152100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67640" y="183672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67640" y="212868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21480" y="1276200"/>
            <a:ext cx="29988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08520" y="1528920"/>
            <a:ext cx="5000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08520" y="1798560"/>
            <a:ext cx="10270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981080" y="990720"/>
            <a:ext cx="4952880" cy="1155600"/>
            <a:chOff x="1981080" y="990720"/>
            <a:chExt cx="4952880" cy="1155600"/>
          </a:xfrm>
        </p:grpSpPr>
        <p:sp>
          <p:nvSpPr>
            <p:cNvPr id="102" name=""/>
            <p:cNvSpPr/>
            <p:nvPr/>
          </p:nvSpPr>
          <p:spPr>
            <a:xfrm>
              <a:off x="1981080" y="990720"/>
              <a:ext cx="4952880" cy="1155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85640" y="1143000"/>
              <a:ext cx="91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VEICO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76080" y="990720"/>
              <a:ext cx="1387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CICLO DI GUI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24520" y="1459080"/>
              <a:ext cx="465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A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82080" y="1459080"/>
              <a:ext cx="32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Arial"/>
                </a:rPr>
                <a:t>B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25240" y="177624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07400" y="1776240"/>
              <a:ext cx="281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80"/>
                  </a:solidFill>
                  <a:latin typeface="Arial"/>
                </a:rPr>
                <a:t>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87120" y="177624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43400" y="1874880"/>
              <a:ext cx="1569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25760" y="1303200"/>
              <a:ext cx="174600" cy="16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00560" y="1541520"/>
              <a:ext cx="225360" cy="187200"/>
            </a:xfrm>
            <a:custGeom>
              <a:avLst/>
              <a:gdLst/>
              <a:ahLst/>
              <a:rect l="l" t="t" r="r" b="b"/>
              <a:pathLst>
                <a:path w="142" h="118">
                  <a:moveTo>
                    <a:pt x="71" y="0"/>
                  </a:moveTo>
                  <a:lnTo>
                    <a:pt x="0" y="118"/>
                  </a:lnTo>
                  <a:lnTo>
                    <a:pt x="142" y="118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49760" y="125748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61640" y="1550880"/>
              <a:ext cx="43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D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61280" y="183204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UD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143000" y="228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LAZIONE EMISSIONE IN NUMERO/MAS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8458200" cy="422280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6400800" y="2514600"/>
            <a:ext cx="1905120" cy="2819160"/>
            <a:chOff x="6400800" y="2514600"/>
            <a:chExt cx="1905120" cy="2819160"/>
          </a:xfrm>
        </p:grpSpPr>
        <p:sp>
          <p:nvSpPr>
            <p:cNvPr id="119" name=""/>
            <p:cNvSpPr/>
            <p:nvPr/>
          </p:nvSpPr>
          <p:spPr>
            <a:xfrm>
              <a:off x="6400800" y="2819160"/>
              <a:ext cx="1905120" cy="2514600"/>
            </a:xfrm>
            <a:custGeom>
              <a:avLst/>
              <a:gdLst>
                <a:gd name="textAreaLeft" fmla="*/ 92880 w 1905120"/>
                <a:gd name="textAreaRight" fmla="*/ 1812240 w 1905120"/>
                <a:gd name="textAreaTop" fmla="*/ 92880 h 2514600"/>
                <a:gd name="textAreaBottom" fmla="*/ 2421720 h 2514600"/>
              </a:gdLst>
              <a:ahLst/>
              <a:rect l="textAreaLeft" t="textAreaTop" r="textAreaRight" b="textAreaBottom"/>
              <a:pathLst>
                <a:path w="21600" h="28509">
                  <a:moveTo>
                    <a:pt x="3600" y="0"/>
                  </a:moveTo>
                  <a:arcTo wR="3600" hR="3600" stAng="16200000" swAng="-5400000"/>
                  <a:lnTo>
                    <a:pt x="0" y="24909"/>
                  </a:lnTo>
                  <a:arcTo wR="3600" hR="3600" stAng="10800000" swAng="-5400000"/>
                  <a:lnTo>
                    <a:pt x="18000" y="285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cap="rnd" w="25560">
              <a:solidFill>
                <a:srgbClr val="ff66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81680" y="251460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EURO 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191120" y="4876920"/>
            <a:ext cx="1447560" cy="748800"/>
            <a:chOff x="4191120" y="4876920"/>
            <a:chExt cx="1447560" cy="748800"/>
          </a:xfrm>
        </p:grpSpPr>
        <p:sp>
          <p:nvSpPr>
            <p:cNvPr id="122" name=""/>
            <p:cNvSpPr/>
            <p:nvPr/>
          </p:nvSpPr>
          <p:spPr>
            <a:xfrm>
              <a:off x="4191120" y="5168880"/>
              <a:ext cx="1447560" cy="456840"/>
            </a:xfrm>
            <a:prstGeom prst="roundRect">
              <a:avLst>
                <a:gd name="adj" fmla="val 16667"/>
              </a:avLst>
            </a:prstGeom>
            <a:noFill/>
            <a:ln cap="rnd" w="25560">
              <a:solidFill>
                <a:srgbClr val="0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19360" y="4876920"/>
              <a:ext cx="114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Times New Roman"/>
                </a:rPr>
                <a:t>EURO I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514600" y="4952880"/>
            <a:ext cx="1447920" cy="736560"/>
            <a:chOff x="2514600" y="4952880"/>
            <a:chExt cx="1447920" cy="736560"/>
          </a:xfrm>
        </p:grpSpPr>
        <p:sp>
          <p:nvSpPr>
            <p:cNvPr id="125" name=""/>
            <p:cNvSpPr/>
            <p:nvPr/>
          </p:nvSpPr>
          <p:spPr>
            <a:xfrm>
              <a:off x="2514600" y="5232240"/>
              <a:ext cx="1447920" cy="457200"/>
            </a:xfrm>
            <a:prstGeom prst="roundRect">
              <a:avLst>
                <a:gd name="adj" fmla="val 16667"/>
              </a:avLst>
            </a:prstGeom>
            <a:noFill/>
            <a:ln cap="rnd" w="2556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29080" y="49528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EURO II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8T10:59:31Z</dcterms:created>
  <dc:creator>lab motori</dc:creator>
  <dc:description/>
  <dc:language>en-US</dc:language>
  <cp:lastModifiedBy>ENEA</cp:lastModifiedBy>
  <cp:lastPrinted>2003-02-27T16:31:54Z</cp:lastPrinted>
  <dcterms:modified xsi:type="dcterms:W3CDTF">2003-04-10T14:07:04Z</dcterms:modified>
  <cp:revision>77</cp:revision>
  <dc:subject/>
  <dc:title>Nessun titolo diapositiva</dc:title>
</cp:coreProperties>
</file>